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B83-2487-4AC3-B6F8-5B1E3EF5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E59-DEAE-4849-9BCC-8C90FF2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B6B-8EFF-4062-8C5E-2A12E9B3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3D6-1232-45E1-AAF3-80944E55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C04-C97F-48DE-A66E-A4E1F39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71D-DACC-4CBC-8F34-7B94D7E0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2D3-61C8-433D-85EC-88B8328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C3F-C02C-48AA-88A7-2D67727A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792-2E27-4CEE-8F01-3ED97738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FFD-793F-4927-91DD-71E38EF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B19-3B6B-424E-A5F9-C089A94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4B7-4416-4DEC-852E-51754EF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995C-838D-4BFF-A954-8B85BBEE9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7400" y="3200400"/>
            <a:ext cx="44672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040" y="152280"/>
            <a:ext cx="892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 since the Civil War,the South has struggle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deal with their troubled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gns which a new,different South is co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its dark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ople of Atlanta struggled to create a new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 slaves and slave owners could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ite of the hardships of the years,the peo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 continued to develop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justices led Dr King to organise nonvio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s aimed at end se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990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040" y="600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828800"/>
            <a:ext cx="8380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480" y="17431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458200" y="2971800"/>
            <a:ext cx="3049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30481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49400" y="34434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03848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49568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5705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2920" y="29520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any other Southern cities,Atlanta is a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ope and faith have replaced with fear and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 still has many problems to deal with,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here are determined to make a new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unted bison,a type of cattle used to exist in hu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on the plain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group of native Americans were forced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ir old hunting gr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killed the bison and cut off the skins,which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t by the rail to cities to be so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76212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1520" y="981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066680"/>
            <a:ext cx="60948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9400" y="2276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123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20040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8520" y="33433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6483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040" y="44863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436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8160" y="5934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01992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65760" y="1057320"/>
            <a:ext cx="199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烧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起，剥夺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系列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了纪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徒然，枉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重新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达成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，因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吃…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50440" y="10047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urn dow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7600" y="14382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awa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1080" y="1971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ser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2276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ot …to dea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06200" y="273384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honour/memor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040" y="3114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va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357192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 new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8320" y="40291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hu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9040" y="4486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greement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960" y="48672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s a resul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7920" y="53244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liv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2320" y="5705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ie ou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27160" y="523800"/>
            <a:ext cx="227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轮流，反过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售，减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打扰；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冒险；碰运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8320" y="5475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in tur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760" y="98100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have an 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5640" y="13622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on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2320" y="17431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u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7760" y="220032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ve sb.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4280" y="27338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ake a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83240" y="31147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end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53720" y="1209600"/>
            <a:ext cx="8864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ship is like money : easier made than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ept        B. to be kept    C. keeping   D. being k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re are three waiting –rooms in the new st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about 1, 000 passe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ating      B. sat       C. seated       D. 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__everything, the wolves had nowhere to h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unted                         B. Hunting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ving hunted            D. Were hu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e came in,  ________ by a group of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llowing       B. followed    C. to follow   D.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015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9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6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600" y="295200"/>
            <a:ext cx="867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__________to the museum with 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go    B. don’t go      C. going        D. not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__________from space, the earth looks like a “b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ing      B. To see     C. Seen        D. Having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__a reply , he decided to write another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not received          B. Not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having received          D. Not rece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Remember___________my best regards to him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nding       B. send      C. sent       D.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09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792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5812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680" y="447840"/>
            <a:ext cx="893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her than__________on a crowded bus, he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s__________a bi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ide ; ride                  B. ridding ; 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ride ; to ride             D. to ride ; 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__________in thought, he almost ran into the 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front of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 B. Having lost     C. Lost   D. To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t  is useless _________argue with such a cruel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try      B. trying      C. have tried    D. had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John is young, but we never knew _________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ody with___________ a wis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; so     B. such ; such      C. such ; so    D. so; 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80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79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0040" y="3419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1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440" y="295200"/>
            <a:ext cx="8687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With the _________number of cars we have ha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many new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creased                      B. increas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creased               D.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r mother has greatly taken pride________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son achieved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      B. for       C. in          D.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ill come on condition___________my par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ited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what           C. which   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 felt sad because he pretended__________m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to have seen               B. not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seen                      D. not se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8144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57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78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3484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280" y="152280"/>
            <a:ext cx="892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out the air to hold some of the sun’s heat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at night____________, too cold for us to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be freezing cold       B. will be freezing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 be frozen cold          D. can freeze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_________the little girl opened the window, a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 flew 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ough    B. The moment      C. Whether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the past, our life 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mparing with             B.  Be com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ompare with             D. Compar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---What can we do to help Ja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All we can do is to try__________that he 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ha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king him to realize     B. making him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make him realize         D. to make him to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900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560" y="1819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564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92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9:41Z</dcterms:modified>
  <cp:revision>11</cp:revision>
  <dc:subject/>
  <dc:title>PowerPoint Presentation</dc:title>
</cp:coreProperties>
</file>